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6714"/>
        <c:axId val="12463064"/>
      </c:barChart>
      <c:catAx>
        <c:axId val="8586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63064"/>
        <c:crosses val="autoZero"/>
        <c:auto val="1"/>
        <c:lblAlgn val="ctr"/>
        <c:lblOffset val="100"/>
        <c:noMultiLvlLbl val="0"/>
      </c:catAx>
      <c:valAx>
        <c:axId val="12463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6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53A-1173-4A47-93AA-1CF228F0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F3C-64DD-4189-BA4B-EF2EF385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2B4-7477-49AF-AF97-1EF7B604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E48-207E-46E0-A551-800E924B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E8A-16E2-4C5F-8EA9-890A654E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590-411A-45BC-A75C-5BFCEB44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E9E-27EC-448D-A034-2FDB80AD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254-6D96-40B7-AAA4-C796F851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AE9-A522-4A1F-95FD-D2765269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17B-C5CE-4871-815B-CA97408F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9A7-007E-47EF-A279-437D0C98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458-6F51-456A-B1D0-3623AEF7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7D776-5F66-406A-883B-0CD0A6ECE8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